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9BE-F641-4EC4-A29B-C7C27292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35E-D533-4207-B523-4B73AD40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1AB-819E-47DC-B320-BE0A25FE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C18-3F15-4C4B-9B0B-C15E44C5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BCD6-51D0-49E7-8744-2A417476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59B4-F105-4172-B49D-3AE9D7C8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E9AB-B9D4-4981-B9DF-B5C8DBBF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4F58-8FD8-4328-B114-29EDA6EB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B13E-E3A5-40FB-90CE-20BC692C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EB93-4829-425E-93B2-E3463A04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4792-BF7C-402E-BB18-D9211D2B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6BB-1EA5-4634-BCF6-12F4612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73D1-18F7-4EB3-941E-5B2B03D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E7CB-179C-4EB3-B627-121A7749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638B-8A8C-498E-87EF-B581287F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D5D6-1850-4665-8818-01EAC853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4AEE-8D07-41E2-B6DA-BD3CF5D1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0AB-FCCD-4FA3-B6DD-06EAFF00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23E-DDDC-4B20-A955-C3FDEBC6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78B-FC58-45AA-B291-734CD580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ECF-AA65-4D7B-AF0C-38FA628E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8D1-FCE2-4299-BA3B-F9398550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EC0-06FA-45C0-A6E3-721B98F3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E91-7FDC-448D-8F3C-DF91A49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EFEC-8172-435B-A278-544912B2D3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C5C7-F2F8-4CEA-8F59-8DD4E7F874E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19047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Lesson 6</a:t>
            </a:r>
            <a:br>
              <a:rPr sz="5400"/>
            </a:b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 Percy Buttons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94920" y="304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here have you just move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at happened one 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hat did he ask you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Did he pay you for the meal and be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What did he do in return fo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Who told you about him l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Is he well-known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What’s he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Has he called on you bef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How often does he call on the houses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ve just moved to a house in Bridge Street. Yesterday a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cked 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my door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ked me for a me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 glass of beer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 return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is, the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od on his he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sang songs. I gave him a meal. He ate the food and drank the beer. Then he put a piece of cheese in his pocket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n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neighbou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ld me about hi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Everybody knows him. His name is Percy Buttons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ls at every hou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 the street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ce a mon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lways asks for a meal and a glass of be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Tell the story according to the following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just moved----Bridge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Yesterday---beggar knocked ---the 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asked ---meal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In return---stood---s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ate food---drank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Then---piece of cheese---pocket---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Later---nighbour---abou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Everybody---him---name---Percy But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 calls---house---street once a---and---asks---meal---glass of 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writer has just moved to a house in Bridge Street. A beggar knocked at her dor yesterday. He sang songs. The writer gave him a meal and a glass of beer in return for this. The beggar’s name is Percy Buttons. He calls at every house in the street once a mon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 sb for sth=ask sth of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向某人索要某物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问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询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asked the teacher for three days’sick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向老师请了三天病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Have I asked you for too much?=Have I asked too much of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向你要求得太多了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asked me for 5 yu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fter the class, he asked me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949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In return (for)      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作为报答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回报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交换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often help him with his English and he gives me film tickets in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经常帮助他学英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给我电影票作为报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约翰送给老太太一束鲜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报答她的慈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gave the old lady a bunch of flowers in return for her kind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汤姆买你的自行车付了多少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id Tom give you in return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at someplace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on somebody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shall call at your house this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今晚要来登门拜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) Tom calls at Green’s office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Tom calls on Green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6:13:12Z</dcterms:created>
  <dc:creator/>
  <dc:description/>
  <dc:language>en-US</dc:language>
  <cp:lastModifiedBy>st</cp:lastModifiedBy>
  <dcterms:modified xsi:type="dcterms:W3CDTF">2002-07-10T07:00:15Z</dcterms:modified>
  <cp:revision>4</cp:revision>
  <dc:subject/>
  <dc:title>Lesson 6  Percy Buttons</dc:title>
</cp:coreProperties>
</file>